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24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30.png" ContentType="image/png"/>
  <Override PartName="/ppt/media/image5.png" ContentType="image/png"/>
  <Override PartName="/ppt/media/image6.png" ContentType="image/png"/>
  <Override PartName="/ppt/media/image34.wmf" ContentType="image/x-wmf"/>
  <Override PartName="/ppt/media/image13.png" ContentType="image/png"/>
  <Override PartName="/ppt/media/image36.wmf" ContentType="image/x-wmf"/>
  <Override PartName="/ppt/media/image37.wmf" ContentType="image/x-wmf"/>
  <Override PartName="/ppt/media/image38.jpeg" ContentType="image/jpeg"/>
  <Override PartName="/ppt/media/image40.jpeg" ContentType="image/jpeg"/>
  <Override PartName="/ppt/media/image10.png" ContentType="image/png"/>
  <Override PartName="/ppt/media/image8.jpeg" ContentType="image/jpeg"/>
  <Override PartName="/ppt/media/image39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23"/>
          </p:nvPr>
        </p:nvSpPr>
        <p:spPr>
          <a:xfrm>
            <a:off x="39038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7331-EE3D-4A02-915A-7AB9C563CEB6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ftr" idx="24"/>
          </p:nvPr>
        </p:nvSpPr>
        <p:spPr>
          <a:xfrm>
            <a:off x="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 type="sldNum" idx="25"/>
          </p:nvPr>
        </p:nvSpPr>
        <p:spPr>
          <a:xfrm>
            <a:off x="390384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8425-7AF3-469B-8313-74B77CF5117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6FD8-0BF6-4A74-9214-DCF60312EDB9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A289-1E78-45A0-B2CF-5B0CE15AB4E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2C37-2ABC-4561-8782-AA441E6BD5F1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8AFD-8742-4285-9D22-80AD06D23D7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FBD9-8B72-43A9-BCE0-E321D4EDC24B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F23B-B1B9-4DCC-9CC1-6B5A89554A8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AD59-4027-4D19-BB75-C53E7B29B581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2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B662-E218-4CF3-8305-A7141895701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A8D7-F405-4B86-8D14-F0F7F6212914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F338-724D-415A-9842-83D83C97C9F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A3AE-FD9F-4D10-8A57-FE019372BC2E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B0C8-7D1F-4C69-B27E-75C378AA250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0495-0780-46D9-8353-038D4C1544F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3D01-6570-4FF9-B5DB-AC99C91098EE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9306-CBE0-4ACD-823A-E1FCA48F089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8C72-E96E-4A3C-A106-54528427897F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FF13-2305-4FE8-8164-F62C5747D6C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3660-3988-4736-9C64-C745EA6E820C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5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BE30-A3BA-4F6E-8F8F-21A01836C1E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25B2-FBF8-4638-9A29-A553EFE53805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9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8EFB-7091-4DC2-97CF-A113301D79D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4DE5-C22C-4DC2-9244-88824CD6838C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2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B3A4-7449-4577-A9ED-2B8C7947123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95D5-7763-4D3E-8FEB-A2C0703BA872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55E4-EE4F-43E6-B67C-93DD966D742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E712-411A-4CE3-8FAE-07B61C394906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722A-794C-472E-9530-3AC0E6E73F9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A97F-4397-4138-BF8F-0AA3B87EE581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1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FC9A-0EB8-45BE-B730-B180D788D8D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7A3F-EBEA-4140-B81D-81F344BD71E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23D5-3EAD-474A-ADA3-5D533AECFA4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F86C-B46A-4B76-85BD-C00094085DFE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5EFA-B8AB-4810-BF4B-C2560C5B44B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39DD-9762-4AB5-BDB4-01E39F806D02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3CC7-A644-4D90-A128-7984BE4C4DC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B5CD-7D4C-4D7A-893C-DF3750855BA1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25C9-3E18-4EC9-B177-C8D6BE5D43E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4DF1-16D4-4B02-8DA8-0907BE3C2FDC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33E6-8C40-4A79-818C-AF9A98F96E4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CB66-E424-4EA4-B9F8-0AD8DB4B33CA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4983-7103-4325-87AA-A30B570F7B6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40A2-D014-4B70-AFEE-7AD7DF251B1B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A244-F8EB-476E-828E-0610B7FDABD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C44E-E43D-4E5C-BD84-198FD7BDAB49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7891-0F64-48A6-A3FE-7A2F5CBD93C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3797-CB41-4F29-B03A-7E035AA940C9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53C0-1E2C-409F-88D8-921E7D6FDF2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41E9B-B1DC-49B4-9EDF-22C4283E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8BD64-E9F1-4A3C-974E-16E08C02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72CB7-FA93-4AAF-AB4D-34CD2CD9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CA7AB-6F8B-445D-9114-33A6D81A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82EAD-3E06-4E35-A704-2CBC2166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63AA2-353C-42A8-8FD7-358D7452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FE2B7-C54C-4ED0-A3CC-D9F14C14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9EC45-8357-4BD1-B723-4D85DBA8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047C5-842B-4EEA-BB79-20AB0557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421D3-926A-4BED-BD18-3B0CA33C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A327D-5406-414B-AD06-76A357C7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0E200-6372-4BFD-BC7E-57341442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64514-A1E2-4962-962C-BAD15114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14A5B-282B-4C3F-A418-F6D2B004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8EB5C-A01D-47D0-98D8-1021D3B0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07050-3629-4A88-88CA-3F071083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A263B-77A0-4A4B-9677-2157028A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B5806-2101-4F74-A531-60E475A6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BEEA7-9CF2-4E5E-B81B-2CBE1D14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1A5B7-2599-4BF6-99E9-36C99584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B7DE7-38E5-4C53-8D0C-E8C6CF31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70F78-ED9E-4FD6-9F57-729CC3BD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AB259-ACF6-4992-9F15-0A94F241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AC7E8-42A0-4B3E-A669-F83CE7F1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4" name="Freeform 9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405" name="Right Triangle 10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06" name="Right Triangle 10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408" name="Straight Connector 15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409" name="Chevron 16"/>
          <p:cNvGrpSpPr/>
          <p:nvPr/>
        </p:nvGrpSpPr>
        <p:grpSpPr>
          <a:xfrm>
            <a:off x="8583480" y="4937040"/>
            <a:ext cx="335160" cy="378000"/>
            <a:chOff x="8583480" y="4937040"/>
            <a:chExt cx="335160" cy="378000"/>
          </a:xfrm>
        </p:grpSpPr>
        <p:pic>
          <p:nvPicPr>
            <p:cNvPr id="410" name="Chevron 16" descr=""/>
            <p:cNvPicPr/>
            <p:nvPr/>
          </p:nvPicPr>
          <p:blipFill>
            <a:blip r:embed="rId5"/>
            <a:stretch/>
          </p:blipFill>
          <p:spPr>
            <a:xfrm>
              <a:off x="858348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grpSp>
        <p:nvGrpSpPr>
          <p:cNvPr id="412" name="Chevron 17"/>
          <p:cNvGrpSpPr/>
          <p:nvPr/>
        </p:nvGrpSpPr>
        <p:grpSpPr>
          <a:xfrm>
            <a:off x="8400960" y="4937040"/>
            <a:ext cx="335160" cy="378000"/>
            <a:chOff x="8400960" y="4937040"/>
            <a:chExt cx="335160" cy="378000"/>
          </a:xfrm>
        </p:grpSpPr>
        <p:pic>
          <p:nvPicPr>
            <p:cNvPr id="413" name="Chevron 17" descr=""/>
            <p:cNvPicPr/>
            <p:nvPr/>
          </p:nvPicPr>
          <p:blipFill>
            <a:blip r:embed="rId6"/>
            <a:stretch/>
          </p:blipFill>
          <p:spPr>
            <a:xfrm>
              <a:off x="840096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1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6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457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4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460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2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503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50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506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8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549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5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552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AD5E-97B7-4738-B2ED-1E775D69DC7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5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596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59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599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BBA3-0784-4290-A468-7F7F1E926C2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7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258106"/>
              </a:gs>
              <a:gs pos="50000">
                <a:srgbClr val="6ac654"/>
              </a:gs>
              <a:gs pos="100000">
                <a:srgbClr val="25810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6" name="Freeform 10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9cfa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  <p:sp>
          <p:nvSpPr>
            <p:cNvPr id="47" name="Freeform 15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  <p:grpSp>
          <p:nvGrpSpPr>
            <p:cNvPr id="48" name="Freeform 16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49" name="Freeform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3300"/>
                  </a:solidFill>
                  <a:latin typeface="Tahoma"/>
                </a:endParaRPr>
              </a:p>
            </p:txBody>
          </p:sp>
        </p:grpSp>
        <p:pic>
          <p:nvPicPr>
            <p:cNvPr id="51" name="Straight Connector 17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92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9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95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4"/>
          <a:stretch/>
        </p:blipFill>
        <p:spPr>
          <a:xfrm>
            <a:off x="165240" y="5815080"/>
            <a:ext cx="2220840" cy="1042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6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137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13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140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grpSp>
        <p:nvGrpSpPr>
          <p:cNvPr id="141" name="Chevron 7"/>
          <p:cNvGrpSpPr/>
          <p:nvPr/>
        </p:nvGrpSpPr>
        <p:grpSpPr>
          <a:xfrm>
            <a:off x="3560760" y="2955960"/>
            <a:ext cx="334800" cy="377640"/>
            <a:chOff x="3560760" y="2955960"/>
            <a:chExt cx="334800" cy="377640"/>
          </a:xfrm>
        </p:grpSpPr>
        <p:pic>
          <p:nvPicPr>
            <p:cNvPr id="142" name="Chevron 7" descr=""/>
            <p:cNvPicPr/>
            <p:nvPr/>
          </p:nvPicPr>
          <p:blipFill>
            <a:blip r:embed="rId4"/>
            <a:stretch/>
          </p:blipFill>
          <p:spPr>
            <a:xfrm>
              <a:off x="3560760" y="295596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grpSp>
        <p:nvGrpSpPr>
          <p:cNvPr id="144" name="Chevron 9"/>
          <p:cNvGrpSpPr/>
          <p:nvPr/>
        </p:nvGrpSpPr>
        <p:grpSpPr>
          <a:xfrm>
            <a:off x="3371760" y="2955960"/>
            <a:ext cx="335160" cy="377640"/>
            <a:chOff x="3371760" y="2955960"/>
            <a:chExt cx="335160" cy="377640"/>
          </a:xfrm>
        </p:grpSpPr>
        <p:pic>
          <p:nvPicPr>
            <p:cNvPr id="145" name="Chevron 9" descr=""/>
            <p:cNvPicPr/>
            <p:nvPr/>
          </p:nvPicPr>
          <p:blipFill>
            <a:blip r:embed="rId5"/>
            <a:stretch/>
          </p:blipFill>
          <p:spPr>
            <a:xfrm>
              <a:off x="3371760" y="2955960"/>
              <a:ext cx="3351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6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187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18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190" name="Straight Connector 14" descr=""/>
          <p:cNvPicPr/>
          <p:nvPr/>
        </p:nvPicPr>
        <p:blipFill>
          <a:blip r:embed="rId4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2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273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27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276" name="Straight Connector 14" descr=""/>
          <p:cNvPicPr/>
          <p:nvPr/>
        </p:nvPicPr>
        <p:blipFill>
          <a:blip r:embed="rId4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8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319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3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322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5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10" descr="http://t3.gstatic.com/images?q=tbn:ANd9GcS1gBq2Jxv4V1M_3RRq1ZZ0bG61430PR_TbMx0Qw5ELvp4eGizAsOyK3yi8"/>
          <p:cNvPicPr/>
          <p:nvPr/>
        </p:nvPicPr>
        <p:blipFill>
          <a:blip r:embed="rId1"/>
          <a:stretch/>
        </p:blipFill>
        <p:spPr>
          <a:xfrm>
            <a:off x="4029120" y="264960"/>
            <a:ext cx="4611600" cy="30877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2" descr="http://members.chello.nl/j.meijers3/Jas-39-Grippen-2.jpg"/>
          <p:cNvPicPr/>
          <p:nvPr/>
        </p:nvPicPr>
        <p:blipFill>
          <a:blip r:embed="rId2"/>
          <a:stretch/>
        </p:blipFill>
        <p:spPr>
          <a:xfrm>
            <a:off x="4014720" y="2425680"/>
            <a:ext cx="4626000" cy="18208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4" descr="http://i.telegraph.co.uk/multimedia/archive/01460/viking_1460009c.jpg"/>
          <p:cNvPicPr/>
          <p:nvPr/>
        </p:nvPicPr>
        <p:blipFill>
          <a:blip r:embed="rId3"/>
          <a:stretch/>
        </p:blipFill>
        <p:spPr>
          <a:xfrm>
            <a:off x="4029120" y="3989520"/>
            <a:ext cx="4611600" cy="1828800"/>
          </a:xfrm>
          <a:prstGeom prst="rect">
            <a:avLst/>
          </a:prstGeom>
          <a:ln w="0">
            <a:noFill/>
          </a:ln>
        </p:spPr>
      </p:pic>
      <p:pic>
        <p:nvPicPr>
          <p:cNvPr id="651" name="Rectangle 18" descr=""/>
          <p:cNvPicPr/>
          <p:nvPr/>
        </p:nvPicPr>
        <p:blipFill>
          <a:blip r:embed="rId4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logo.png"/>
          <p:cNvPicPr/>
          <p:nvPr/>
        </p:nvPicPr>
        <p:blipFill>
          <a:blip r:embed="rId5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8" descr="http://t3.gstatic.com/images?q=tbn:ANd9GcQ-l7FCCL_-WR9UW6bS41O9y6VFfbZuRgSx1Igap19R_ExcdVSnAQ"/>
          <p:cNvPicPr/>
          <p:nvPr/>
        </p:nvPicPr>
        <p:blipFill>
          <a:blip r:embed="rId6"/>
          <a:stretch/>
        </p:blipFill>
        <p:spPr>
          <a:xfrm>
            <a:off x="344520" y="258840"/>
            <a:ext cx="3684600" cy="3817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6" descr="http://t2.gstatic.com/images?q=tbn:ANd9GcTxoTzB1mYlUCEcQrk06nA31ViOA7Rw4ZGW2c5jNAcb0_-piJVw"/>
          <p:cNvPicPr/>
          <p:nvPr/>
        </p:nvPicPr>
        <p:blipFill>
          <a:blip r:embed="rId7"/>
          <a:stretch/>
        </p:blipFill>
        <p:spPr>
          <a:xfrm>
            <a:off x="189000" y="2413080"/>
            <a:ext cx="3865320" cy="16952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8" descr="http://t1.gstatic.com/images?q=tbn:ANd9GcRLPOqBPoQR2bfgoSjW3piLVY-NA9c_Zo2-iF0Mzfu3zAEEvunr"/>
          <p:cNvPicPr/>
          <p:nvPr/>
        </p:nvPicPr>
        <p:blipFill>
          <a:blip r:embed="rId8"/>
          <a:stretch/>
        </p:blipFill>
        <p:spPr>
          <a:xfrm>
            <a:off x="198360" y="3949560"/>
            <a:ext cx="383076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12" descr="C:\Documents and Settings\Andy Robertson\Local Settings\Temporary Internet Files\Content.IE5\00Z75JV2\MPj04389310000[1].jpg"/>
          <p:cNvPicPr/>
          <p:nvPr/>
        </p:nvPicPr>
        <p:blipFill>
          <a:blip r:embed="rId1"/>
          <a:stretch/>
        </p:blipFill>
        <p:spPr>
          <a:xfrm>
            <a:off x="1371600" y="1136520"/>
            <a:ext cx="6400800" cy="45849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3" descr="C:\Documents and Settings\Andy Robertson\Local Settings\Temporary Internet Files\Content.IE5\00Z75JV2\MPj04389310000[1].jpg"/>
          <p:cNvPicPr/>
          <p:nvPr/>
        </p:nvPicPr>
        <p:blipFill>
          <a:blip r:embed="rId2">
            <a:lum bright="22000"/>
          </a:blip>
          <a:stretch/>
        </p:blipFill>
        <p:spPr>
          <a:xfrm>
            <a:off x="-1812960" y="0"/>
            <a:ext cx="109569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2" name="Rectangle 9"/>
          <p:cNvGrpSpPr/>
          <p:nvPr/>
        </p:nvGrpSpPr>
        <p:grpSpPr>
          <a:xfrm>
            <a:off x="701640" y="1768320"/>
            <a:ext cx="7851960" cy="1090800"/>
            <a:chOff x="701640" y="1768320"/>
            <a:chExt cx="7851960" cy="1090800"/>
          </a:xfrm>
        </p:grpSpPr>
        <p:pic>
          <p:nvPicPr>
            <p:cNvPr id="693" name="Rectangle 9" descr=""/>
            <p:cNvPicPr/>
            <p:nvPr/>
          </p:nvPicPr>
          <p:blipFill>
            <a:blip r:embed="rId3"/>
            <a:stretch/>
          </p:blipFill>
          <p:spPr>
            <a:xfrm>
              <a:off x="701640" y="1768320"/>
              <a:ext cx="78519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731880" y="1797120"/>
              <a:ext cx="779760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A readiness to start </a:t>
              </a:r>
              <a:r>
                <a:rPr b="1" lang="en-GB" sz="3200" spc="-1" strike="noStrike">
                  <a:solidFill>
                    <a:srgbClr val="ffffff"/>
                  </a:solidFill>
                  <a:latin typeface="Arial Black"/>
                </a:rPr>
                <a:t>bold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 new ventures</a:t>
              </a:r>
              <a:r>
                <a:rPr b="0" lang="en-GB" sz="4400" spc="-1" strike="noStrike">
                  <a:solidFill>
                    <a:srgbClr val="ffffff"/>
                  </a:solidFill>
                  <a:latin typeface="Arial Black"/>
                </a:rPr>
                <a:t>.</a:t>
              </a: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grpSp>
        <p:nvGrpSpPr>
          <p:cNvPr id="695" name="Rectangle 6"/>
          <p:cNvGrpSpPr/>
          <p:nvPr/>
        </p:nvGrpSpPr>
        <p:grpSpPr>
          <a:xfrm>
            <a:off x="450720" y="3035160"/>
            <a:ext cx="8255160" cy="1974960"/>
            <a:chOff x="450720" y="3035160"/>
            <a:chExt cx="8255160" cy="1974960"/>
          </a:xfrm>
        </p:grpSpPr>
        <p:pic>
          <p:nvPicPr>
            <p:cNvPr id="696" name="Rectangle 6" descr=""/>
            <p:cNvPicPr/>
            <p:nvPr/>
          </p:nvPicPr>
          <p:blipFill>
            <a:blip r:embed="rId4"/>
            <a:stretch/>
          </p:blipFill>
          <p:spPr>
            <a:xfrm>
              <a:off x="450720" y="3035160"/>
              <a:ext cx="825516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482760" y="3067200"/>
              <a:ext cx="819612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An organisation created for business ventures;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"a growing enterprise must have a </a:t>
              </a:r>
              <a:r>
                <a:rPr b="0" lang="en-GB" sz="3600" spc="-1" strike="noStrike">
                  <a:solidFill>
                    <a:srgbClr val="ffffff"/>
                  </a:solidFill>
                  <a:latin typeface="Arial Black"/>
                </a:rPr>
                <a:t>bold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 leader"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698" name="Rectangle 2" descr=""/>
          <p:cNvPicPr/>
          <p:nvPr/>
        </p:nvPicPr>
        <p:blipFill>
          <a:blip r:embed="rId5"/>
          <a:stretch/>
        </p:blipFill>
        <p:spPr>
          <a:xfrm>
            <a:off x="530280" y="853920"/>
            <a:ext cx="7473960" cy="9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701" name="TextBox 3"/>
          <p:cNvSpPr/>
          <p:nvPr/>
        </p:nvSpPr>
        <p:spPr>
          <a:xfrm>
            <a:off x="1152360" y="1776240"/>
            <a:ext cx="57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Enterprise Skill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Rectangle 2" descr=""/>
          <p:cNvPicPr/>
          <p:nvPr/>
        </p:nvPicPr>
        <p:blipFill>
          <a:blip r:embed="rId1"/>
          <a:stretch/>
        </p:blipFill>
        <p:spPr>
          <a:xfrm>
            <a:off x="182520" y="360360"/>
            <a:ext cx="8620200" cy="1359000"/>
          </a:xfrm>
          <a:prstGeom prst="rect">
            <a:avLst/>
          </a:prstGeom>
          <a:ln w="0">
            <a:noFill/>
          </a:ln>
        </p:spPr>
      </p:pic>
      <p:sp>
        <p:nvSpPr>
          <p:cNvPr id="703" name="AutoShape 6"/>
          <p:cNvSpPr/>
          <p:nvPr/>
        </p:nvSpPr>
        <p:spPr>
          <a:xfrm>
            <a:off x="409680" y="38671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esenting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4" name="AutoShape 8"/>
          <p:cNvSpPr/>
          <p:nvPr/>
        </p:nvSpPr>
        <p:spPr>
          <a:xfrm>
            <a:off x="465120" y="320040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Team work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5" name="AutoShape 9"/>
          <p:cNvSpPr/>
          <p:nvPr/>
        </p:nvSpPr>
        <p:spPr>
          <a:xfrm>
            <a:off x="3751200" y="455148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lann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6" name="AutoShape 13"/>
          <p:cNvSpPr/>
          <p:nvPr/>
        </p:nvSpPr>
        <p:spPr>
          <a:xfrm>
            <a:off x="3867120" y="25225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anaging Resources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7" name="AutoShape 15"/>
          <p:cNvSpPr/>
          <p:nvPr/>
        </p:nvSpPr>
        <p:spPr>
          <a:xfrm>
            <a:off x="517680" y="251604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gotiation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8" name="AutoShape 16"/>
          <p:cNvSpPr/>
          <p:nvPr/>
        </p:nvSpPr>
        <p:spPr>
          <a:xfrm>
            <a:off x="385920" y="455148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eviewing Performance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9" name="AutoShape 17"/>
          <p:cNvSpPr/>
          <p:nvPr/>
        </p:nvSpPr>
        <p:spPr>
          <a:xfrm>
            <a:off x="3990960" y="185256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blem solving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0" name="AutoShape 20"/>
          <p:cNvSpPr/>
          <p:nvPr/>
        </p:nvSpPr>
        <p:spPr>
          <a:xfrm>
            <a:off x="614520" y="185112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Listen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1" name="AutoShape 21"/>
          <p:cNvSpPr/>
          <p:nvPr/>
        </p:nvSpPr>
        <p:spPr>
          <a:xfrm>
            <a:off x="3825720" y="38671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2" name="AutoShape 22"/>
          <p:cNvSpPr/>
          <p:nvPr/>
        </p:nvSpPr>
        <p:spPr>
          <a:xfrm>
            <a:off x="3816360" y="320040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reative Think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713" name="Picture 13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716" name="TextBox 3"/>
          <p:cNvSpPr/>
          <p:nvPr/>
        </p:nvSpPr>
        <p:spPr>
          <a:xfrm>
            <a:off x="2279520" y="1643040"/>
            <a:ext cx="406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Developing Enterprise skills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719" name="TextBox 5"/>
          <p:cNvSpPr/>
          <p:nvPr/>
        </p:nvSpPr>
        <p:spPr>
          <a:xfrm>
            <a:off x="1789200" y="2054160"/>
            <a:ext cx="549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In a day /over three year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Rectangle 2" descr=""/>
          <p:cNvPicPr/>
          <p:nvPr/>
        </p:nvPicPr>
        <p:blipFill>
          <a:blip r:embed="rId1"/>
          <a:stretch/>
        </p:blipFill>
        <p:spPr>
          <a:xfrm>
            <a:off x="201600" y="450720"/>
            <a:ext cx="8491680" cy="13845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5" descr="j0311786"/>
          <p:cNvPicPr/>
          <p:nvPr/>
        </p:nvPicPr>
        <p:blipFill>
          <a:blip r:embed="rId2"/>
          <a:stretch/>
        </p:blipFill>
        <p:spPr>
          <a:xfrm>
            <a:off x="7920000" y="4257720"/>
            <a:ext cx="933480" cy="803160"/>
          </a:xfrm>
          <a:prstGeom prst="rect">
            <a:avLst/>
          </a:prstGeom>
          <a:ln w="0">
            <a:noFill/>
          </a:ln>
        </p:spPr>
      </p:pic>
      <p:sp>
        <p:nvSpPr>
          <p:cNvPr id="722" name="AutoShape 4"/>
          <p:cNvSpPr/>
          <p:nvPr/>
        </p:nvSpPr>
        <p:spPr>
          <a:xfrm>
            <a:off x="1038240" y="1604880"/>
            <a:ext cx="5327640" cy="2158920"/>
          </a:xfrm>
          <a:prstGeom prst="downArrowCallout">
            <a:avLst>
              <a:gd name="adj1" fmla="val 61699"/>
              <a:gd name="adj2" fmla="val 30847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Calibri"/>
              </a:rPr>
              <a:t>Tackling a problem</a:t>
            </a: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Calibri"/>
              </a:rPr>
              <a:t>Generate ideas through discussion to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en-GB" sz="2000" spc="-1" strike="noStrike">
                <a:solidFill>
                  <a:srgbClr val="ffff00"/>
                </a:solidFill>
                <a:latin typeface="Calibri"/>
              </a:rPr>
              <a:t>reach a common understanding of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Calibri"/>
              </a:rPr>
              <a:t>what is required to resolve the problem</a:t>
            </a: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3" name="AutoShape 5"/>
          <p:cNvSpPr/>
          <p:nvPr/>
        </p:nvSpPr>
        <p:spPr>
          <a:xfrm>
            <a:off x="1368360" y="2274840"/>
            <a:ext cx="5292720" cy="2158920"/>
          </a:xfrm>
          <a:prstGeom prst="downArrowCallout">
            <a:avLst>
              <a:gd name="adj1" fmla="val 61294"/>
              <a:gd name="adj2" fmla="val 30644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Calibri"/>
              </a:rPr>
              <a:t>Planning the project or activity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Breaking down tasks, organising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resources, deploying team member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and allocating responsibilitie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4" name="AutoShape 6"/>
          <p:cNvSpPr/>
          <p:nvPr/>
        </p:nvSpPr>
        <p:spPr>
          <a:xfrm>
            <a:off x="1795320" y="3022560"/>
            <a:ext cx="5329440" cy="2158920"/>
          </a:xfrm>
          <a:prstGeom prst="downArrowCallout">
            <a:avLst>
              <a:gd name="adj1" fmla="val 61720"/>
              <a:gd name="adj2" fmla="val 30857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Calibri"/>
              </a:rPr>
              <a:t>Implementing the plan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8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alibri"/>
              </a:rPr>
              <a:t>ACTION</a:t>
            </a:r>
            <a:r>
              <a:rPr b="0" lang="en-GB" sz="2800" spc="-1" strike="noStrike">
                <a:solidFill>
                  <a:srgbClr val="008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Solving problems, monitoring progres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5" name="AutoShape 7"/>
          <p:cNvSpPr/>
          <p:nvPr/>
        </p:nvSpPr>
        <p:spPr>
          <a:xfrm>
            <a:off x="2268360" y="3537000"/>
            <a:ext cx="5329440" cy="2484360"/>
          </a:xfrm>
          <a:prstGeom prst="downArrowCallout">
            <a:avLst>
              <a:gd name="adj1" fmla="val 53635"/>
              <a:gd name="adj2" fmla="val 26815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Calibri"/>
              </a:rPr>
              <a:t>Evaluating the process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Reviewing activities and final outcomes,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reflecting on lessons learned and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assessing the skills, attitudes, qualitie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and understanding gained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726" name="Picture 19" descr="j0311778"/>
          <p:cNvPicPr/>
          <p:nvPr/>
        </p:nvPicPr>
        <p:blipFill>
          <a:blip r:embed="rId3"/>
          <a:stretch/>
        </p:blipFill>
        <p:spPr>
          <a:xfrm>
            <a:off x="7704000" y="3033720"/>
            <a:ext cx="719280" cy="9270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20" descr="j0311776"/>
          <p:cNvPicPr/>
          <p:nvPr/>
        </p:nvPicPr>
        <p:blipFill>
          <a:blip r:embed="rId4"/>
          <a:stretch/>
        </p:blipFill>
        <p:spPr>
          <a:xfrm>
            <a:off x="7201080" y="2276640"/>
            <a:ext cx="915840" cy="7412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22" descr="j0311780"/>
          <p:cNvPicPr/>
          <p:nvPr/>
        </p:nvPicPr>
        <p:blipFill>
          <a:blip r:embed="rId5"/>
          <a:stretch/>
        </p:blipFill>
        <p:spPr>
          <a:xfrm>
            <a:off x="6659640" y="1341360"/>
            <a:ext cx="689040" cy="95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731" name="TextBox 3"/>
          <p:cNvSpPr/>
          <p:nvPr/>
        </p:nvSpPr>
        <p:spPr>
          <a:xfrm>
            <a:off x="873360" y="2332080"/>
            <a:ext cx="80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Recording impact assessment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734" name="TextBox 3"/>
          <p:cNvSpPr/>
          <p:nvPr/>
        </p:nvSpPr>
        <p:spPr>
          <a:xfrm>
            <a:off x="1765080" y="2279520"/>
            <a:ext cx="595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Developing an activity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" descr="C:\Documents and Settings\Andy Robertson\Local Settings\Temporary Internet Files\Content.IE5\XP688FCC\MPj04386600000[1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740" name="TextBox 3"/>
          <p:cNvSpPr/>
          <p:nvPr/>
        </p:nvSpPr>
        <p:spPr>
          <a:xfrm>
            <a:off x="2988360" y="2425680"/>
            <a:ext cx="29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Discussion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658" name="TextBox 3"/>
          <p:cNvSpPr/>
          <p:nvPr/>
        </p:nvSpPr>
        <p:spPr>
          <a:xfrm>
            <a:off x="3246480" y="4280040"/>
            <a:ext cx="447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Andy &amp; Simon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642960" y="1055520"/>
            <a:ext cx="7334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400" spc="-1" strike="noStrike">
                <a:solidFill>
                  <a:srgbClr val="ff3300"/>
                </a:solidFill>
                <a:latin typeface="Tahoma"/>
              </a:rPr>
              <a:t>Välkommen och tack för att ni gett </a:t>
            </a:r>
            <a:endParaRPr b="0" lang="en-US" sz="5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400" spc="-1" strike="noStrike">
                <a:solidFill>
                  <a:srgbClr val="ff3300"/>
                </a:solidFill>
                <a:latin typeface="Tahoma"/>
              </a:rPr>
              <a:t>oss din tid.</a:t>
            </a:r>
            <a:endParaRPr b="0" lang="en-US" sz="5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0" name="TextBox 7"/>
          <p:cNvSpPr/>
          <p:nvPr/>
        </p:nvSpPr>
        <p:spPr>
          <a:xfrm>
            <a:off x="1192320" y="5499000"/>
            <a:ext cx="61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lcome and thank you for coming</a:t>
            </a:r>
            <a:endParaRPr b="0" lang="en-US" sz="12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5" descr="trainers"/>
          <p:cNvPicPr/>
          <p:nvPr/>
        </p:nvPicPr>
        <p:blipFill>
          <a:blip r:embed="rId1"/>
          <a:stretch/>
        </p:blipFill>
        <p:spPr>
          <a:xfrm>
            <a:off x="-360360" y="476280"/>
            <a:ext cx="8101080" cy="5656320"/>
          </a:xfrm>
          <a:prstGeom prst="rect">
            <a:avLst/>
          </a:prstGeom>
          <a:ln w="0">
            <a:noFill/>
          </a:ln>
        </p:spPr>
      </p:pic>
      <p:sp>
        <p:nvSpPr>
          <p:cNvPr id="748" name="Oval 7"/>
          <p:cNvSpPr/>
          <p:nvPr/>
        </p:nvSpPr>
        <p:spPr>
          <a:xfrm>
            <a:off x="6624720" y="1125360"/>
            <a:ext cx="2268360" cy="20894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FOOT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FIRST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3995280" y="2100240"/>
            <a:ext cx="4367160" cy="3500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eam Work - Strengths an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st Task/Worst Task –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hat we could improve nex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ost enjoyabl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5" descr="j0311786"/>
          <p:cNvPicPr/>
          <p:nvPr/>
        </p:nvPicPr>
        <p:blipFill>
          <a:blip r:embed="rId1"/>
          <a:stretch/>
        </p:blipFill>
        <p:spPr>
          <a:xfrm>
            <a:off x="431640" y="1305000"/>
            <a:ext cx="3276720" cy="4032000"/>
          </a:xfrm>
          <a:prstGeom prst="rect">
            <a:avLst/>
          </a:prstGeom>
          <a:ln w="0">
            <a:noFill/>
          </a:ln>
        </p:spPr>
      </p:pic>
      <p:sp>
        <p:nvSpPr>
          <p:cNvPr id="751" name="AutoShape 14"/>
          <p:cNvSpPr/>
          <p:nvPr/>
        </p:nvSpPr>
        <p:spPr>
          <a:xfrm>
            <a:off x="3963960" y="460440"/>
            <a:ext cx="4535640" cy="1584360"/>
          </a:xfrm>
          <a:custGeom>
            <a:avLst/>
            <a:gdLst>
              <a:gd name="textAreaLeft" fmla="*/ 0 w 4535640"/>
              <a:gd name="textAreaRight" fmla="*/ 4536000 w 453564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Review to Improve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752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400"/>
                            </p:stCondLst>
                            <p:childTnLst>
                              <p:par>
                                <p:cTn id="2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400"/>
                            </p:stCondLst>
                            <p:childTnLst>
                              <p:par>
                                <p:cTn id="2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400"/>
                            </p:stCondLst>
                            <p:childTnLst>
                              <p:par>
                                <p:cTn id="2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600"/>
                            </p:stCondLst>
                            <p:childTnLst>
                              <p:par>
                                <p:cTn id="2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100"/>
                            </p:stCondLst>
                            <p:childTnLst>
                              <p:par>
                                <p:cTn id="2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6" descr=""/>
          <p:cNvPicPr/>
          <p:nvPr/>
        </p:nvPicPr>
        <p:blipFill>
          <a:blip r:embed="rId1"/>
          <a:stretch/>
        </p:blipFill>
        <p:spPr>
          <a:xfrm>
            <a:off x="2016000" y="1308240"/>
            <a:ext cx="5067360" cy="2381040"/>
          </a:xfrm>
          <a:prstGeom prst="rect">
            <a:avLst/>
          </a:prstGeom>
          <a:ln w="0">
            <a:noFill/>
          </a:ln>
        </p:spPr>
      </p:pic>
      <p:sp>
        <p:nvSpPr>
          <p:cNvPr id="754" name="TextBox 3"/>
          <p:cNvSpPr/>
          <p:nvPr/>
        </p:nvSpPr>
        <p:spPr>
          <a:xfrm>
            <a:off x="814320" y="4073400"/>
            <a:ext cx="76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Thank You for Taking Part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756" name="Picture 5" descr="thank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3"/>
          <p:cNvSpPr/>
          <p:nvPr/>
        </p:nvSpPr>
        <p:spPr>
          <a:xfrm>
            <a:off x="2286000" y="270504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The Plan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666" name="AutoShape 4"/>
          <p:cNvSpPr/>
          <p:nvPr/>
        </p:nvSpPr>
        <p:spPr>
          <a:xfrm>
            <a:off x="762120" y="1006560"/>
            <a:ext cx="7734240" cy="4387680"/>
          </a:xfrm>
          <a:prstGeom prst="flowChartAlternateProcess">
            <a:avLst/>
          </a:prstGeom>
          <a:solidFill>
            <a:srgbClr val="54a838"/>
          </a:solidFill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Plan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.00 – 3.30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elcome &amp; Introduction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lenary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.30 – 4.1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tivity Circu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roup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4.15 – 4.45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iscussion on activity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lenary 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4.45 – 5.00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Challeng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lenary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669" name="TextBox 3"/>
          <p:cNvSpPr/>
          <p:nvPr/>
        </p:nvSpPr>
        <p:spPr>
          <a:xfrm>
            <a:off x="1776240" y="2027160"/>
            <a:ext cx="5407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Enterprise a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British perspective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5" descr="C:\Documents and Settings\Andy Robertson\My Documents\My Pictures\Microsoft Clip Organizer\j040364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  <p:pic>
        <p:nvPicPr>
          <p:cNvPr id="671" name="Rectangle 2" descr=""/>
          <p:cNvPicPr/>
          <p:nvPr/>
        </p:nvPicPr>
        <p:blipFill>
          <a:blip r:embed="rId2"/>
          <a:stretch/>
        </p:blipFill>
        <p:spPr>
          <a:xfrm>
            <a:off x="768240" y="-237960"/>
            <a:ext cx="7382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672" name="Rectangle 11"/>
          <p:cNvGrpSpPr/>
          <p:nvPr/>
        </p:nvGrpSpPr>
        <p:grpSpPr>
          <a:xfrm>
            <a:off x="3749760" y="3151080"/>
            <a:ext cx="3004920" cy="2994120"/>
            <a:chOff x="3749760" y="3151080"/>
            <a:chExt cx="3004920" cy="2994120"/>
          </a:xfrm>
        </p:grpSpPr>
        <p:pic>
          <p:nvPicPr>
            <p:cNvPr id="673" name="Rectangle 11" descr=""/>
            <p:cNvPicPr/>
            <p:nvPr/>
          </p:nvPicPr>
          <p:blipFill>
            <a:blip r:embed="rId3"/>
            <a:stretch/>
          </p:blipFill>
          <p:spPr>
            <a:xfrm>
              <a:off x="3749760" y="3151080"/>
              <a:ext cx="300492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3763800" y="3166920"/>
              <a:ext cx="2980080" cy="29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I enjoy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getting into new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situations where I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don’t know how things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will turn out.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15" descr="C:\Documents and Settings\Andy Robertson\My Documents\My Pictures\Microsoft Clip Organizer\j040364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  <p:pic>
        <p:nvPicPr>
          <p:cNvPr id="676" name="Rectangle 2" descr=""/>
          <p:cNvPicPr/>
          <p:nvPr/>
        </p:nvPicPr>
        <p:blipFill>
          <a:blip r:embed="rId2"/>
          <a:stretch/>
        </p:blipFill>
        <p:spPr>
          <a:xfrm>
            <a:off x="768240" y="-237960"/>
            <a:ext cx="7382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677" name="Rectangle 4"/>
          <p:cNvGrpSpPr/>
          <p:nvPr/>
        </p:nvGrpSpPr>
        <p:grpSpPr>
          <a:xfrm>
            <a:off x="3535200" y="2809800"/>
            <a:ext cx="3206880" cy="3194280"/>
            <a:chOff x="3535200" y="2809800"/>
            <a:chExt cx="3206880" cy="3194280"/>
          </a:xfrm>
        </p:grpSpPr>
        <p:pic>
          <p:nvPicPr>
            <p:cNvPr id="678" name="Rectangle 4" descr=""/>
            <p:cNvPicPr/>
            <p:nvPr/>
          </p:nvPicPr>
          <p:blipFill>
            <a:blip r:embed="rId3"/>
            <a:stretch/>
          </p:blipFill>
          <p:spPr>
            <a:xfrm>
              <a:off x="3535200" y="2809800"/>
              <a:ext cx="3206880" cy="31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 rot="21361200">
              <a:off x="3650760" y="2925360"/>
              <a:ext cx="297972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 Black"/>
                </a:rPr>
                <a:t>I like to act </a:t>
              </a: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 Black"/>
                </a:rPr>
                <a:t>on impulse!.</a:t>
              </a: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5" descr="C:\Documents and Settings\Andy Robertson\My Documents\My Pictures\Microsoft Clip Organizer\j040364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  <p:pic>
        <p:nvPicPr>
          <p:cNvPr id="681" name="Rectangle 2" descr=""/>
          <p:cNvPicPr/>
          <p:nvPr/>
        </p:nvPicPr>
        <p:blipFill>
          <a:blip r:embed="rId2"/>
          <a:stretch/>
        </p:blipFill>
        <p:spPr>
          <a:xfrm>
            <a:off x="768240" y="-237960"/>
            <a:ext cx="7382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682" name="Rectangle 4"/>
          <p:cNvGrpSpPr/>
          <p:nvPr/>
        </p:nvGrpSpPr>
        <p:grpSpPr>
          <a:xfrm>
            <a:off x="3681360" y="2955960"/>
            <a:ext cx="3164040" cy="3146400"/>
            <a:chOff x="3681360" y="2955960"/>
            <a:chExt cx="3164040" cy="3146400"/>
          </a:xfrm>
        </p:grpSpPr>
        <p:pic>
          <p:nvPicPr>
            <p:cNvPr id="683" name="Rectangle 4" descr=""/>
            <p:cNvPicPr/>
            <p:nvPr/>
          </p:nvPicPr>
          <p:blipFill>
            <a:blip r:embed="rId3"/>
            <a:stretch/>
          </p:blipFill>
          <p:spPr>
            <a:xfrm>
              <a:off x="3681360" y="2955960"/>
              <a:ext cx="3164040" cy="31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 rot="21418200">
              <a:off x="3777840" y="3047760"/>
              <a:ext cx="297972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 Black"/>
                </a:rPr>
                <a:t>I enjoy trying </a:t>
              </a:r>
              <a:endParaRPr b="0" lang="en-US" sz="40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 Black"/>
                </a:rPr>
                <a:t>new things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15" descr="C:\Documents and Settings\Andy Robertson\My Documents\My Pictures\Microsoft Clip Organizer\j040364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  <p:pic>
        <p:nvPicPr>
          <p:cNvPr id="686" name="Rectangle 2" descr=""/>
          <p:cNvPicPr/>
          <p:nvPr/>
        </p:nvPicPr>
        <p:blipFill>
          <a:blip r:embed="rId2"/>
          <a:stretch/>
        </p:blipFill>
        <p:spPr>
          <a:xfrm>
            <a:off x="768240" y="-237960"/>
            <a:ext cx="7382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687" name="Rectangle 4"/>
          <p:cNvGrpSpPr/>
          <p:nvPr/>
        </p:nvGrpSpPr>
        <p:grpSpPr>
          <a:xfrm>
            <a:off x="3700440" y="2895480"/>
            <a:ext cx="3213000" cy="3194280"/>
            <a:chOff x="3700440" y="2895480"/>
            <a:chExt cx="3213000" cy="3194280"/>
          </a:xfrm>
        </p:grpSpPr>
        <p:pic>
          <p:nvPicPr>
            <p:cNvPr id="688" name="Rectangle 4" descr=""/>
            <p:cNvPicPr/>
            <p:nvPr/>
          </p:nvPicPr>
          <p:blipFill>
            <a:blip r:embed="rId3"/>
            <a:stretch/>
          </p:blipFill>
          <p:spPr>
            <a:xfrm>
              <a:off x="3700440" y="2895480"/>
              <a:ext cx="3213000" cy="31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 rot="21355800">
              <a:off x="3817440" y="3013200"/>
              <a:ext cx="29782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 Black"/>
                </a:rPr>
                <a:t>I am a creative </a:t>
              </a: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 Black"/>
                </a:rPr>
                <a:t>problem solver</a:t>
              </a: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9:40:38Z</dcterms:created>
  <dc:creator>Wyedean School</dc:creator>
  <dc:description/>
  <dc:language>en-US</dc:language>
  <cp:lastModifiedBy> </cp:lastModifiedBy>
  <dcterms:modified xsi:type="dcterms:W3CDTF">2011-08-18T15:25:29Z</dcterms:modified>
  <cp:revision>80</cp:revision>
  <dc:subject/>
  <dc:title>Work Related Learning Village</dc:title>
</cp:coreProperties>
</file>